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E2E4-F22D-41DF-9A1C-3C5223DB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7E5-6BDB-4A0A-89E0-2FE70A6B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9F0-937C-4323-A6D1-09F5A449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601-F046-452C-BD2B-8E0763CD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7C7-29BA-4FF9-B6EC-141DAB49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B57-465A-489E-8854-C1DA0F4F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DCF-D29C-4043-BEAB-C773C45C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894-CB09-4084-80B3-2F378C62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67F-C421-4163-A54B-00EBD05C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B01-DB11-4501-AE0A-B43A2967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E51-10D7-433A-B241-FF06AC90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786-50E9-4F1F-B147-D19EBCCE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3DB8-08DA-4B4E-A352-485E928C509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200" spc="-1" strike="noStrike">
                <a:solidFill>
                  <a:srgbClr val="000000"/>
                </a:solidFill>
                <a:latin typeface="Calibri"/>
              </a:rPr>
              <a:t>Management Of Tropical Rainfores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anaging Global Eco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oodlands and forests throughout the world are under threat from being cut down for a variety of reason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fore management is becoming increasingly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ain method of management is called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ustainabilit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s means that the forests are used, but in a way which does not affect their long-term growth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orkers carefully harvest the trees and their resourc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trees that have been used are then replac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anaging Global Eco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essential that the governments of the countries where there are still large areas of forest be persuaded not to allow them to be cut dow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fortunately it is not that easy, as the forests often represent a lucrative short-term economic resource for the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ffects Of Clearance On Nutrient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oils of the tropical rainforest seem to be very fertile, as they support a wide range of plants and anima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 that is not actually the c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egetation itself produces most of the nutrients that are then re-us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rapid leaf fall and this is quickly decomposed in the hot and humid conditions, creating a deep and nutrient rich humus lay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removing the trees, humans have also removed the main source of nutrients in the soi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equently when areas have been cleared for agriculture, the soils have quickly become infertile and usel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000000"/>
                </a:solidFill>
                <a:uFillTx/>
                <a:latin typeface="Calibri"/>
              </a:rPr>
              <a:t>Effects Of Clearance On Global Clim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es absorb carbon dioxide and convert it back into oxygen, ready for animals to breathe. }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y are effectively the lungs of the world and are therefore very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y chopping down vast areas of both the rainforests and deciduous woodlands, less carbon dioxide can be processed, meaning that there is more in the atmosphe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turn, this increase in carbon dioxide in the atmosphere is one of the suspected causes of global warming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000000"/>
                </a:solidFill>
                <a:uFillTx/>
                <a:latin typeface="Calibri"/>
              </a:rPr>
              <a:t>Effects Of Clearance On Plants/Anim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opical rainforests are home to countless species of animals and plants, some of which may not have been discovered y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chopping down the trees, the habitats of these plants and animals are being destroyed and they will d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inforests provide a huge range of foods and medicines that are essential for humans, and these are also being lost due to the defores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1:14:41Z</dcterms:created>
  <dc:creator>Dell_02</dc:creator>
  <dc:description/>
  <dc:language>en-US</dc:language>
  <cp:lastModifiedBy>Dell_02</cp:lastModifiedBy>
  <dcterms:modified xsi:type="dcterms:W3CDTF">2011-01-28T01:24:15Z</dcterms:modified>
  <cp:revision>1</cp:revision>
  <dc:subject/>
  <dc:title>Management Of Tropical Rainforest</dc:title>
</cp:coreProperties>
</file>